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52386-261A-4E63-B3DC-AC90163034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4F4FE-62AC-4F82-B503-E7D5DCE8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096F6-CDC5-4082-A34A-FA3D04D2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284A2-51AA-4D31-8BE0-0002458B41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F67A9-EB3F-4487-BCF8-ACCE481C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BC68D-427D-45F6-B2E3-1D25F57A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0AC68-6D2D-4601-8831-92D57AF0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43E8D-C593-4B29-93AD-DBD3995A5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CA201-339E-4B5C-A2D2-3B9DCAA41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DF322-8107-480F-9153-8F71E617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C012E-B01B-47CD-BAC9-B8CFAD3D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BEEC7-45C4-4FA4-A6AD-23C339B2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1660-E7B5-46A0-97D1-021A9F482D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6920" y="2276640"/>
            <a:ext cx="741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五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腰椎间盘突出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注射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髓核切吸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979640" y="1828800"/>
            <a:ext cx="5662440" cy="3255840"/>
          </a:xfrm>
          <a:prstGeom prst="rect">
            <a:avLst/>
          </a:prstGeom>
          <a:ln w="0">
            <a:noFill/>
          </a:ln>
        </p:spPr>
      </p:pic>
      <p:sp>
        <p:nvSpPr>
          <p:cNvPr id="141" name="矩形 6"/>
          <p:cNvSpPr/>
          <p:nvPr/>
        </p:nvSpPr>
        <p:spPr>
          <a:xfrm>
            <a:off x="3912120" y="5219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盆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腰椎间盘突出症，拟进行非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非手术治疗期间主要的护理措施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椎间盘压迫和刺激神经根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腰背部疼痛、医嘱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肉萎缩、神经根粘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和理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身起床和卧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翻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保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脊髓受压者应戴围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直至神经压迫症状解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常生活中的正确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良好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变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腰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腰背肌力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892920" cy="3816360"/>
          </a:xfrm>
          <a:prstGeom prst="rect">
            <a:avLst/>
          </a:prstGeom>
          <a:ln w="0">
            <a:noFill/>
          </a:ln>
        </p:spPr>
      </p:pic>
      <p:sp>
        <p:nvSpPr>
          <p:cNvPr id="163" name="矩形 4"/>
          <p:cNvSpPr/>
          <p:nvPr/>
        </p:nvSpPr>
        <p:spPr>
          <a:xfrm>
            <a:off x="3590280" y="5148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腰背肌锻炼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腰椎间盘突出症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腰椎间盘突出症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腰椎间盘突出症患者出现腰腿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腰椎间盘突出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最常见为腰痛，可有神经源性间歇性跛行，大多数患者有坐骨神经痛，部分患者有马尾综合征。体检可有直腿抬高试验和加强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绝大部分患者经非手术治疗都可治愈，严重者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做好卧床、牵引患者护理。术后重点观察预防伤口血肿和神经根粘连等并发症，恢复期注意保护腰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是指由于椎间盘变性、纤维环破裂和髓核突出，刺激或压迫神经根或马尾神经所引起的一种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腿痛最常见的原因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建筑工人，既往体健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前弯腰搬重物时突然出现腰背部疼痛，平卧休息后好转，弯腰时加重。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腰部疼痛加剧并向左下肢放射。遂来医院就诊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弯腰活动受限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棘突上和棘突间有压痛。直腿抬高试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体间隙变窄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痛：最常见，且多在发病早期即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坐骨神经痛：典型表现是疼痛从下腰部向臀部、大腿后方和小腿外侧放射，直至足背或足外侧，并可伴麻木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马尾神经受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侧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痛及骶棘肌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腿抬高试验及加强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04640" y="1916280"/>
            <a:ext cx="4096080" cy="2952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4572000" y="1811160"/>
            <a:ext cx="4168800" cy="3057840"/>
          </a:xfrm>
          <a:prstGeom prst="rect">
            <a:avLst/>
          </a:prstGeom>
          <a:ln w="0">
            <a:noFill/>
          </a:ln>
        </p:spPr>
      </p:pic>
      <p:sp>
        <p:nvSpPr>
          <p:cNvPr id="124" name="矩形 4"/>
          <p:cNvSpPr/>
          <p:nvPr/>
        </p:nvSpPr>
        <p:spPr>
          <a:xfrm>
            <a:off x="3074400" y="500364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脊柱侧凸与缓解神经根受压的关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5108760" cy="3745080"/>
          </a:xfrm>
          <a:prstGeom prst="rect">
            <a:avLst/>
          </a:prstGeom>
          <a:ln w="0">
            <a:noFill/>
          </a:ln>
        </p:spPr>
      </p:pic>
      <p:sp>
        <p:nvSpPr>
          <p:cNvPr id="128" name="矩形 4"/>
          <p:cNvSpPr/>
          <p:nvPr/>
        </p:nvSpPr>
        <p:spPr>
          <a:xfrm>
            <a:off x="3349440" y="54356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直腿抬高试验与加强试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6:47Z</dcterms:modified>
  <cp:revision>110</cp:revision>
  <dc:subject/>
  <dc:title>内科护理学</dc:title>
</cp:coreProperties>
</file>